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4.png" ContentType="image/png"/>
  <Override PartName="/ppt/media/image27.png" ContentType="image/png"/>
  <Override PartName="/ppt/media/image12.wmf" ContentType="image/x-wmf"/>
  <Override PartName="/ppt/media/image9.png" ContentType="image/png"/>
  <Override PartName="/ppt/media/image39.png" ContentType="image/png"/>
  <Override PartName="/ppt/media/image30.png" ContentType="image/png"/>
  <Override PartName="/ppt/media/image33.wmf" ContentType="image/x-wmf"/>
  <Override PartName="/ppt/media/image13.png" ContentType="image/png"/>
  <Override PartName="/ppt/media/image11.png" ContentType="image/png"/>
  <Override PartName="/ppt/media/image6.wmf" ContentType="image/x-wmf"/>
  <Override PartName="/ppt/media/image28.png" ContentType="image/png"/>
  <Override PartName="/ppt/media/image31.wmf" ContentType="image/x-wmf"/>
  <Override PartName="/ppt/media/image34.wmf" ContentType="image/x-wmf"/>
  <Override PartName="/ppt/media/image14.png" ContentType="image/png"/>
  <Override PartName="/ppt/media/image36.png" ContentType="image/png"/>
  <Override PartName="/ppt/media/image37.png" ContentType="image/png"/>
  <Override PartName="/ppt/media/image38.png" ContentType="image/png"/>
  <Override PartName="/ppt/media/image8.png" ContentType="image/png"/>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11CB-6F6A-4758-BE70-2B1B4E87FF8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8C54-E049-454B-A5B0-A33124342649}"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781E-7D0D-46D6-90A7-F4D1CCF0B83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0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15"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1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19"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21"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24"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2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2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63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33"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Base Values</a:t>
            </a:r>
            <a:endParaRPr b="1" lang="en-US" sz="2000" spc="-1" strike="noStrike">
              <a:solidFill>
                <a:srgbClr val="000000"/>
              </a:solidFill>
              <a:latin typeface="Arial"/>
            </a:endParaRPr>
          </a:p>
        </p:txBody>
      </p:sp>
      <p:sp>
        <p:nvSpPr>
          <p:cNvPr id="63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historic financial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statistic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growth (adjust for organic growth)</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use EBITDA and separate depreci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sales (can be most important variable in mode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ratio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and tax rat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financial ratio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E, ROIC</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3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Guidance</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228600" y="1600200"/>
            <a:ext cx="8686800" cy="3224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45"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46" name="Picture 3" descr=""/>
          <p:cNvPicPr/>
          <p:nvPr/>
        </p:nvPicPr>
        <p:blipFill>
          <a:blip r:embed="rId1"/>
          <a:stretch/>
        </p:blipFill>
        <p:spPr>
          <a:xfrm>
            <a:off x="4876920" y="1908000"/>
            <a:ext cx="4095720" cy="2484720"/>
          </a:xfrm>
          <a:prstGeom prst="rect">
            <a:avLst/>
          </a:prstGeom>
          <a:ln w="0">
            <a:noFill/>
          </a:ln>
        </p:spPr>
      </p:pic>
      <p:pic>
        <p:nvPicPr>
          <p:cNvPr id="647"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49" name="Picture 2" descr=""/>
          <p:cNvPicPr/>
          <p:nvPr/>
        </p:nvPicPr>
        <p:blipFill>
          <a:blip r:embed="rId1"/>
          <a:stretch/>
        </p:blipFill>
        <p:spPr>
          <a:xfrm>
            <a:off x="533520" y="1143000"/>
            <a:ext cx="6400800" cy="3429000"/>
          </a:xfrm>
          <a:prstGeom prst="rect">
            <a:avLst/>
          </a:prstGeom>
          <a:ln w="0">
            <a:noFill/>
          </a:ln>
        </p:spPr>
      </p:pic>
      <p:pic>
        <p:nvPicPr>
          <p:cNvPr id="650" name="Picture 4" descr=""/>
          <p:cNvPicPr/>
          <p:nvPr/>
        </p:nvPicPr>
        <p:blipFill>
          <a:blip r:embed="rId2"/>
          <a:stretch/>
        </p:blipFill>
        <p:spPr>
          <a:xfrm>
            <a:off x="3581280" y="4435560"/>
            <a:ext cx="4748400" cy="2422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52"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 Margins</a:t>
            </a:r>
            <a:endParaRPr b="1" lang="en-US" sz="2000" spc="-1" strike="noStrike">
              <a:solidFill>
                <a:srgbClr val="000000"/>
              </a:solidFill>
              <a:latin typeface="Arial"/>
            </a:endParaRPr>
          </a:p>
        </p:txBody>
      </p:sp>
      <p:sp>
        <p:nvSpPr>
          <p:cNvPr id="65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56"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a:t>
            </a:r>
            <a:endParaRPr b="1" lang="en-US" sz="2000" spc="-1" strike="noStrike">
              <a:solidFill>
                <a:srgbClr val="000000"/>
              </a:solidFill>
              <a:latin typeface="Arial"/>
            </a:endParaRPr>
          </a:p>
        </p:txBody>
      </p:sp>
      <p:sp>
        <p:nvSpPr>
          <p:cNvPr id="65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 in 2008 was £500 million (2007: £409 million, 2006: £384 million), an increase of 22% over the level of expenditure in 2007. Key areas of capital expenditure increase related to investment in the production capacity and facilities of the Group, in particular UK chocolate production and gum capacity in Europe. All these projects were funded from internal resour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009 we expect capital spend to be 5% of revenue on ongoing basis and an additional 2% of revenue incurred as part of our Vision into Action programme. </a:t>
            </a: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60"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62"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64"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66"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scount Rate in Goodwill Analysis</a:t>
            </a:r>
            <a:endParaRPr b="1" lang="en-US" sz="2000" spc="-1" strike="noStrike">
              <a:solidFill>
                <a:srgbClr val="000000"/>
              </a:solidFill>
              <a:latin typeface="Arial"/>
            </a:endParaRPr>
          </a:p>
        </p:txBody>
      </p:sp>
      <p:sp>
        <p:nvSpPr>
          <p:cNvPr id="670" name=""/>
          <p:cNvSpPr txBox="1"/>
          <p:nvPr/>
        </p:nvSpPr>
        <p:spPr>
          <a:xfrm>
            <a:off x="762120" y="1295280"/>
            <a:ext cx="7696080" cy="5105520"/>
          </a:xfrm>
          <a:prstGeom prst="rect">
            <a:avLst/>
          </a:prstGeom>
          <a:noFill/>
          <a:ln w="0">
            <a:noFill/>
          </a:ln>
        </p:spPr>
        <p:txBody>
          <a:bodyPr lIns="92160" rIns="92160" tIns="46080" bIns="46080" anchor="t">
            <a:normAutofit fontScale="95000"/>
          </a:bodyPr>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tests goodwill annually for impairment, or more frequently if there are indications that goodwill might be impaired. The recoverable amounts of the cash generating units (CGUs) to which goodwill has been allocated are determined based on value in use calculations which are the present value of the future cash flows expected to be obtained from the CGU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assumptions for the value in use calculations for all CGUs are those regarding discount rates, long-term growth rates and expected changes to the cash flows generated by the CGU during the period. Initially a post-tax discount rate based on the Group’s weighted average cost of capital of 8%, adjusted where appropriate for country specific risks, is applied to calculate the net present value of the post-tax cash flows. If this indicates that the recoverable value of the unit is close to or below its carrying value, the impairment test is re-performed using a pre-tax discount rate and pre-tax cash flows in order to determine if an impairment exists and to establish its magnitude. Changes to the cash flows are determined for each CGU and are based on local management forecasts, past performance and the impact of Group strategies such as focus brands and market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prepares cash flow forecasts derived from the most recent financial budgets approved by management for the next four years and extrapolates cash flows for no more than a further five years, using a steady growth rate applicable to the relevant market. During this five year period the growth rate for developed markets is forecast inflation and for emerging markets is the forecast GDP growth of the relevant countries. This rate does not exceed the average long-term growth rate for the relevant markets. The cash flows are assumed to continue in perpetuity at the long-term growth rate for the relevant countries, which are based on external industry forecasts of inflation.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pplied</a:t>
            </a:r>
            <a:endParaRPr b="1" lang="en-US" sz="2000" spc="-1" strike="noStrike">
              <a:solidFill>
                <a:srgbClr val="000000"/>
              </a:solidFill>
              <a:latin typeface="Arial"/>
            </a:endParaRPr>
          </a:p>
        </p:txBody>
      </p:sp>
      <p:pic>
        <p:nvPicPr>
          <p:cNvPr id="672" name="Picture 2" descr=""/>
          <p:cNvPicPr/>
          <p:nvPr/>
        </p:nvPicPr>
        <p:blipFill>
          <a:blip r:embed="rId1"/>
          <a:stretch/>
        </p:blipFill>
        <p:spPr>
          <a:xfrm>
            <a:off x="838080" y="2438280"/>
            <a:ext cx="7685280" cy="11448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 Betas</a:t>
            </a:r>
            <a:endParaRPr b="1" lang="en-US" sz="2000" spc="-1" strike="noStrike">
              <a:solidFill>
                <a:srgbClr val="000000"/>
              </a:solidFill>
              <a:latin typeface="Arial"/>
            </a:endParaRPr>
          </a:p>
        </p:txBody>
      </p:sp>
      <p:pic>
        <p:nvPicPr>
          <p:cNvPr id="674"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s</a:t>
            </a:r>
            <a:endParaRPr b="1" lang="en-US" sz="2000" spc="-1" strike="noStrike">
              <a:solidFill>
                <a:srgbClr val="000000"/>
              </a:solidFill>
              <a:latin typeface="Arial"/>
            </a:endParaRPr>
          </a:p>
        </p:txBody>
      </p:sp>
      <p:pic>
        <p:nvPicPr>
          <p:cNvPr id="676"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Using Alternative Methods</a:t>
            </a:r>
            <a:endParaRPr b="1" lang="en-US" sz="2000" spc="-1" strike="noStrike">
              <a:solidFill>
                <a:srgbClr val="000000"/>
              </a:solidFill>
              <a:latin typeface="Arial"/>
            </a:endParaRPr>
          </a:p>
        </p:txBody>
      </p:sp>
      <p:pic>
        <p:nvPicPr>
          <p:cNvPr id="678"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8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83"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84"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8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88"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9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Historic Growth Rate</a:t>
            </a:r>
            <a:endParaRPr b="1" lang="en-US" sz="2000" spc="-1" strike="noStrike">
              <a:solidFill>
                <a:srgbClr val="000000"/>
              </a:solidFill>
              <a:latin typeface="Arial"/>
            </a:endParaRPr>
          </a:p>
        </p:txBody>
      </p:sp>
      <p:pic>
        <p:nvPicPr>
          <p:cNvPr id="701" name="Picture 2" descr=""/>
          <p:cNvPicPr/>
          <p:nvPr/>
        </p:nvPicPr>
        <p:blipFill>
          <a:blip r:embed="rId1"/>
          <a:stretch/>
        </p:blipFill>
        <p:spPr>
          <a:xfrm>
            <a:off x="406440" y="1905120"/>
            <a:ext cx="8204040" cy="37922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703"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705"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70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originally provided for borrowings by us and certain of our subsidiaries that may be designated by us in an aggregate principal amount of up to £5.5 bill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18, 2010, the Loan Agreement was amended to increase the loan facility of £5.5 billion to an aggregate of £7.1 billion. Under the Loan Agreement, we guarantee the obligations of any subsidiary borrow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in the Loan Agreement</a:t>
            </a:r>
            <a:endParaRPr b="1" lang="en-US" sz="2000" spc="-1" strike="noStrike">
              <a:solidFill>
                <a:srgbClr val="000000"/>
              </a:solidFill>
              <a:latin typeface="Arial"/>
            </a:endParaRPr>
          </a:p>
        </p:txBody>
      </p:sp>
      <p:sp>
        <p:nvSpPr>
          <p:cNvPr id="70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requires the maintenance of a minimum total shareholders’ equity of not less than $23 billion, which minimum level would be increased, in the event of completion of the offer, by 75% of any increase in such total shareholders’ equity as a direct result of certain issuances by Kraft Foods of equity securities to finance the acquisition of Cadbury or to refinance certain indebted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n the event that our long-term senior unsecured indebtedness is rated below investment grade (or not rated) by either Moody’s or S&amp;P, the Loan Agreement requires us to maintain a leverage ratio (measured by the ratio of the total indebtedness (net of cash and cash equivalents) of Kraft Foods and its subsidiaries to the adjusted EBITDA of Kraft Foods and its subsidiaries) of not more than 4.25 to 1.00.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also contains customary representations, covenants and events of default and requires the prepayment of advances and/or the permanent reduction of commitments under the bridge facility with the net cash proceeds received from certain disposals, debt issuances and equity capital markets transactions. </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711"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13"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1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from Pizza Business</a:t>
            </a:r>
            <a:endParaRPr b="1" lang="en-US" sz="2000" spc="-1" strike="noStrike">
              <a:solidFill>
                <a:srgbClr val="000000"/>
              </a:solidFill>
              <a:latin typeface="Arial"/>
            </a:endParaRPr>
          </a:p>
        </p:txBody>
      </p:sp>
      <p:pic>
        <p:nvPicPr>
          <p:cNvPr id="717" name="Picture 2" descr=""/>
          <p:cNvPicPr/>
          <p:nvPr/>
        </p:nvPicPr>
        <p:blipFill>
          <a:blip r:embed="rId1"/>
          <a:stretch/>
        </p:blipFill>
        <p:spPr>
          <a:xfrm>
            <a:off x="455760" y="2819520"/>
            <a:ext cx="8334360" cy="19112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1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1000" spc="-1" strike="noStrike">
              <a:solidFill>
                <a:srgbClr val="000000"/>
              </a:solidFill>
              <a:latin typeface="Arial"/>
            </a:endParaRPr>
          </a:p>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will was increased $9,821 million to reflect the total excess of the purchase consideration over the fair value of the assets acquired of $15,943 mill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ccount for the acquisition of Cadbury pursuant to the offer in accordance with U.S. GAAP, as treated within the acquisition method of accounting for business combinations. Under this method of accounting, we will record the exchange of Cadbury ordinary shares, for Kraft Foods common stock based on the fair value of the consideration given, which is the market value of Kraft Foods common stock issued in connection with the offer (based on the closing share price ) and the cash consideration paid in the offer, as the purchase price of Cadbur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locate the purchase price to the net tangible and identifiable intangible assets acquired and liabilities assumed based on their respective fair values at the date the minimum acceptance condition is satisfied. Any excess of the purchase price over those fair values will be recorded as goodwill.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e lived intangible assets will be amortized over their estimated useful lives. Intangible assets with indefinite useful lives and goodwill will not be amortized but will be tested for impairment at least annually. All intangible assets and goodwill are also tested for impairment when certain indicators are present. If in the future, we determined that intangible assets or goodwill are impaired, an impairment charge would be recorded at that tim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chase price allocation reflected in the pro forma information included in this prospectus/offer to exchange is based on preliminary assumptions. The amount of the estimated purchase price allocated to goodwill and intangibles is approximately $20.9 billion. The final purchase price allocation, which will be based in part on detailed valuation studies which have not yet been completed, may result in an increase or decrease in finite-lived  intangible assets which could result in a material increase or decrease in the estimated amortization of intangible assets included in the pro forma information included in this prospectus/offer to exchange. We expect to complete the final purchase price allocation no later than 12 months following the date the minimum acceptance condition is satisfied or we otherwise acquire Cadbury. </a:t>
            </a:r>
            <a:endParaRPr b="0" lang="en-US" sz="1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21"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25"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27"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29"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31"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33" name="Picture 2" descr=""/>
          <p:cNvPicPr/>
          <p:nvPr/>
        </p:nvPicPr>
        <p:blipFill>
          <a:blip r:embed="rId1"/>
          <a:stretch/>
        </p:blipFill>
        <p:spPr>
          <a:xfrm>
            <a:off x="533520" y="1600200"/>
            <a:ext cx="6226200" cy="4525920"/>
          </a:xfrm>
          <a:prstGeom prst="rect">
            <a:avLst/>
          </a:prstGeom>
          <a:ln w="0">
            <a:noFill/>
          </a:ln>
        </p:spPr>
      </p:pic>
      <p:pic>
        <p:nvPicPr>
          <p:cNvPr id="734"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3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3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to Cadbury</a:t>
            </a:r>
            <a:endParaRPr b="1" lang="en-US" sz="2000" spc="-1" strike="noStrike">
              <a:solidFill>
                <a:srgbClr val="000000"/>
              </a:solidFill>
              <a:latin typeface="Arial"/>
            </a:endParaRPr>
          </a:p>
        </p:txBody>
      </p:sp>
      <p:sp>
        <p:nvSpPr>
          <p:cNvPr id="74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August 2009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r Roger,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very much enjoyed meeting you this morning. As I explained, we believe that the combination of our companies would provide a compelling value proposition for both our shareholders. As analysts and industry observers have long speculated, our two great companies are highly complementary and a combination makes a great deal of strategic and financial sense. We believe that now is the time to pursue a transaction as a result of the significant opportunities available to both of us. We look forward to engaging in constructive, friendly discussions and working toward a positive outcome on a recommended basi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great respect and admiration for Cadbury plc (“Cadbury”), its employees, its leadership and its proud heritage. We have also taken note of your recent performance and the successful ongoing implementation of your Vision Into Action programme. However, we believe that Cadbury’s prospects, ability to fully realise operational efficiencies and capacity to invest are necessarily constrained given its limited scale and scope relative to larger global competitors. We see few catalysts for sustained future value creation for Cadbury as a standalone entity. In contrast, we have concluded that we can strengthen both our companies by bringing them together, enhancing our worldwide scale and scope, and capitalising on significant opportunities to build a global leader in the food and snacking industry for the benefit of all of our respective stakeholders. In so doing, we are eager to build upon the success of your iconic brands and strong British heritage through increased investment and innov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I am writing to set out the details of a possible offer to combine Cadbury and Kraft Foods Inc. (“Kraft Foods”) (a “Possible Offer”), as approved by the Board of Directors of Kraft Foods. Subject to the pre-conditions set out below, Kraft Foods is prepared to offer 300 pence in cash and 0.2589 new Kraft Foods shares per Cadbury share, which values each Cadbury share at 755 pence (based on yesterday’s closing price of $28.42 for a Kraft Foods share and an exchange rate of 1.617 $/£). This price represents an attractive premium to any measure of the standalone value of Cadbury and fully reflects your recent performance and prospects. Specifically, this price represents a premium of: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44% over Cadbury’s share price of 524 pence on 3 July 2009, prior to recent analyst suggestions regarding potential sector consolid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7% over Cadbury’s 90-day average share price of 553 pence in the period up to 27 August 2009, the last business day preceding this letter; and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1% over Cadbury’s share price of 578 pence at close yesterday. </a:t>
            </a:r>
            <a:endParaRPr b="0" lang="en-US" sz="1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uld also point out that this price is beyond any price at which Cadbury’s shares have traded since the demerg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ossible Offer would provide your shareholders with both value certainty and the opportunity to enjoy the significant value upside in the combined entity’s attractive growth prospects and considerable synergies. Kraft Foods would also offer a mix and match facility under which Cadbury shareholders could elect, subject to availability, to vary the proportions in which they would receive cash and new Kraft Foods shar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believe that the strategic and financial rationale for this transaction is compelling. The transaction would creat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company with approximately $50 billion in revenues, with leading shares in snacking and an exceptional portfolio of confectionery and biscuit brands around the worl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geographically diversified combined business, with leading positions and significant scale in key developing markets including India, Mexico, Brazil, China and Russia;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strong presence in instant consumption channels in both developed and developing markets, expanding the reach and margin potential of the combined business;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the potential for meaningful revenue synergies over time from investments in distribution, marketing and product development, as well as a significant opportunity to realise pre-tax cost savings of at least $625 million annually through increased operational efficienci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raft Foods has a proven track record of successfully completing and integrating strategic combinations to build iconic brands and multi-national businesses, including the acquisitions of LU in 2007 and Nabisco in 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bination with Cadbury is consistent with Kraft Foods’ stated strategic objective to build a high-performing global company by reframing our categories, capitalising on our established sales capabilities and driving down costs without compromising our commitment to high quality. Over the past three years, we have successfully positioned Kraft Foods for sustainable, profitable growth. A combination with Cadbury would mark a logical next step in our transformation as we shape the company into a more global, higher-growth and higher-margin entity. </a:t>
            </a:r>
            <a:endParaRPr b="0" lang="en-US" sz="9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we would draw on the collective strengths of our two organisations and create a stronger, more competitive global company for the benefit of all stakeholders. We believe that the growth prospects and global scope of the enlarged entity should lead to increased opportunities for talented employees and managers of both companies. In addition, we confirm that the existing contractual employment rights, including pension rights, of all employees of Cadbury would be fully safeguarded</a:t>
            </a:r>
            <a:r>
              <a:rPr b="0" lang="en-US" sz="800" spc="-1" strike="noStrike">
                <a:solidFill>
                  <a:srgbClr val="000000"/>
                </a:solidFill>
                <a:latin typeface="Arial"/>
              </a:rPr>
              <a:t>. The consideration required for the Possible Offer would be provided from a combination of Kraft Foods’ existing funds, new debt and the issuance of equity. Financing would be on the basis that Kraft Foods would maintain an investment-grade credit rating. The significant cash flow of the enlarged entity following a combination would allow for rapid debt paydown and the continued funding of growth initiative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ogether with our legal advisers, have undertaken an analysis in relation to anti-trust matters. The complementary nature of our two businesses means that any antitrust concerns will be few, and limited in scope: we are confident that any issues can be appropriately addressed within the envisaged implementation timeframe. In this regard, we would suggest that our respective legal advisers meet at your earliest convenience, in order for our advisers to explain their analysis, and for next steps to be identifie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believe it is in all parties’ interests to progress this transaction as swiftly as possible. Our senior management and advisers have already completed extensive analysis and due diligence based on publicly available information. Accordingly, our due diligence requirements are limited, confirmatory in nature and capable of being addressed within a compressed timeframe. Lazard is acting as our lead financial adviser. We have also retained Centerview Partners, Citigroup and Deutsche Bank as financial advisers. Our legal advisers are Clifford Chance; Cravath, Swaine &amp; Moore; Gibson, Dunn &amp; Crutcher; and Arnold &amp; Port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Kraft Foods’ preference to implement any offer by means of a scheme of arrangement but we reserve the right to change this to a general offer. Any offer, if made, would be subject to the terms and conditions usually attaching to a scheme of arrangement, or offer, involving a UK public compan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king of any offer would be subject to the following pre-condi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satisfactory completion of a limited due diligence review by Kraft Foods, including access to Cadbury’s internal plan and projec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Kraft Foods obtaining satisfactory financing;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unanimous recommendation by the directors of Cadbury to vote in favour of the scheme, or if relevant, to accept the off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avoidance of doubt, this letter should not be construed in any regard as constituting an offer or evincing an intention to make an offer or inviting an offer or imposing an obligation to make an offer for Cadbury and any of its securities or otherwise giving rise to legal relations (save for the obligation to keep its terms confidential) and, in particular, does not constitute a firm intention to make an offer for the purposes of Rule 2.5 of The City Code on Takeovers and Mergers. This proposal is made on a strictly private and confidential basis. This letter shall be governed by and construed in accordance with English law.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rust that our proposal makes clear our level of seriousness and enthusiasm for pursuing this opportunity. We are willing to commit substantial time and financial resources to do so. This matter has the highest priority for Kraft Foods and we are keen to have our advisers and executive team engage with yours so that we can progress this proposal in an expeditious mann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 our conversation, I look forward to hearing from you shor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s sincere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ene B. Rosenfeld </a:t>
            </a:r>
            <a:endParaRPr b="0" lang="en-US" sz="9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Estimated EPS of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Value is 843 pence</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74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Additional Response</a:t>
            </a:r>
            <a:endParaRPr b="1" lang="en-US" sz="2000" spc="-1" strike="noStrike">
              <a:solidFill>
                <a:srgbClr val="000000"/>
              </a:solidFill>
              <a:latin typeface="Arial"/>
            </a:endParaRPr>
          </a:p>
        </p:txBody>
      </p:sp>
      <p:sp>
        <p:nvSpPr>
          <p:cNvPr id="74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letter of 31st August, I informed you that the Board had rejected your unsolicited proposal on the grounds that it is unattractive and fundamentally undervalues Cadbury. Under your proposal, Cadbury would be absorbed into Kraft Foods’ low growth, conglomerate business model, an unappealing prospect which contrasts sharply with our strategy to be a pure play confectionery company. I also re-affirmed the Board’s confidence in our future prospects as an independent company. There is nothing in your letter dated 7th September, or your various announcements on and since that date, to change our view.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ould like to take the opportunity to expand on some points I made in my letter.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past few years, Cadbury has completed a major corporate transformation through the acquisition of Adams and the demerger and sale of our beverage businesses. The disposal of Beverages provides the clear business focus we believe essential to achieve outstanding performanc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created a pure play confectionery business with strong brands occupying leading market positions in both developed markets and high growth emerging economies – a business of considerable inherent value, impossible to replicate and with a unique position in the global confectionery market. We have a clear set of targets, a track record of delivery accepted by the market and value enhancing plans to further exploit our proven growth platform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rough our performance to date that we have the scale, capabilities and resource to deliver on our commitments to shareholders. Since the Adams acquisition, our confectionery business has delivered top line growth of over 6%, we have increased our global market share by over 100 bps and generated comparable margin growth of over 200 bps, all while materially increasing spend on marketing and science and technology to drive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been able to demonstrate both organic and inorganic growth. The acquisition of Adams, together with more recent acquisitions, including Intergum and Sansei, provided scale and new growth opportunities in attractive product areas of gum and candy together with exposure to emerging markets that complemented our powerful British Commonwealth heritag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integration of Adams achieved combined cost and revenue synergies of 14% by the end of 2006. We achieved this performance by reinvigorating sales growth, re-stimulating the acquired brands through increased marketing investment and widening the product range through greater commitment to product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understand the attraction of our business and fully appreciate the value and benefits it would offer to those looking for superior growth and exposure to our attractive product segments and markets. Equally, the quality of our management, the momentum of our business, the power of our brands, the strength of our market positions and the spread of our global footprint continue to underpin our belief in the business and its prospects as an independent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emphasise that the delivery of value to our shareholders remains at the top of our agenda. Your proposal is for Cadbury shareholders to exchange shares in a pure-play confectionery business for cash and shares in Kraft Foods, a company with a considerably less focused business mix and historically lower growth. In addition, the proposal is of uncertain value for Cadbury shareholders as underlined by the movement in the Cadbury share price since your announcement. Your proposal fundamentally fails to reflect the current value of Cadbury as a standalone business, its growth prospects and the potential synergies of a combined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committed to the delivery of optimum value to our shareholders and our Board remains convinced that this is achieved through continuing to deliver our standalone pure play confectionery strategy. </a:t>
            </a:r>
            <a:endParaRPr b="0" lang="en-US" sz="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9-29T15:14:22Z</dcterms:modified>
  <cp:revision>477</cp:revision>
  <dc:subject/>
  <dc:title>Risk Analysis in Project Finance</dc:title>
</cp:coreProperties>
</file>